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E8A1-57E1-4CB8-9550-F9001B4E5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A841-7439-4A49-AAE3-86B3279FD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E669-2F0E-4B9F-881E-BB39B0173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518E-4F80-420D-83F1-A459191EC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8BFD5-067F-461E-A5AA-6EEBFEFA9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3E163-31CA-4987-BF2C-3D697F46D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540DB-8F79-417F-A227-32C9B8B82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92FAC-EA7E-4EE7-AA24-FC0EED00A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F84EC-12D5-44F7-ADCF-F35DFCDA0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5916F-A0DE-47DF-B9F7-19903A13C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46906-7EB1-4E4B-A551-E442ACC90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43A9-C7E9-4E37-B690-07F2A6C56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19C8C-AA44-4901-B40D-40CF734A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3BF14-89F7-4998-A3B3-515253909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BE262-6B28-40CF-A911-34BCCD693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C8007-98B8-48AE-B764-2032DB1DE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23ADA-0BE0-4DB1-8C3B-A39A34FE2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D755-B450-4152-AB8E-6583754DB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2A39-473A-4E1C-9102-A91CD4C69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B4F0-3522-4607-9991-4945F5D26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07E9-F9F2-4C3C-B91C-AF9F3BA9A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3E57-1F28-487A-AE0E-1D0D2A27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E6BB-FBB4-439E-9CE9-1DCE1FE9A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2202-9340-4D6F-B902-186AFB36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0A022-4D61-49FA-9F28-E5F2757E139C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8680" y="-83520"/>
            <a:ext cx="2433240" cy="2254680"/>
            <a:chOff x="7168680" y="-83520"/>
            <a:chExt cx="2433240" cy="225468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8680" y="-83520"/>
              <a:ext cx="2433240" cy="2254680"/>
              <a:chOff x="7168680" y="-83520"/>
              <a:chExt cx="2433240" cy="225468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8680" y="-83520"/>
                <a:ext cx="2433240" cy="2254680"/>
                <a:chOff x="7168680" y="-83520"/>
                <a:chExt cx="2433240" cy="225468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48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5480" y="518760"/>
                  <a:ext cx="43020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22000" y="282240"/>
                  <a:ext cx="80820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8520" y="-22680"/>
                  <a:ext cx="121320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21120" y="1421280"/>
                  <a:ext cx="27072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680" y="1275840"/>
                  <a:ext cx="2894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440" y="335520"/>
                  <a:ext cx="28944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5280" y="213840"/>
                  <a:ext cx="28656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28014-DD63-4C26-B28C-B2E18178D8A7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500040" y="128592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Программа профилактики буллинга в образовательных учреждениях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(для учителей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86960" y="221760"/>
            <a:ext cx="585324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Центр социальной-психологической адаптации и развития </a:t>
            </a:r>
            <a:br>
              <a:rPr sz="2100"/>
            </a:b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подростков «ПЕРЕКРЕСТОК» МГППУ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Нижний колонтитул 6"/>
          <p:cNvSpPr/>
          <p:nvPr/>
        </p:nvSpPr>
        <p:spPr>
          <a:xfrm>
            <a:off x="4786200" y="6286680"/>
            <a:ext cx="420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Arial"/>
              </a:rPr>
              <a:t>Центр "ПЕРЕКРЕСТОК" МГППУ, октябрь 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Рисунок 7" descr="LOGO_green.jpg"/>
          <p:cNvPicPr/>
          <p:nvPr/>
        </p:nvPicPr>
        <p:blipFill>
          <a:blip r:embed="rId1"/>
          <a:stretch/>
        </p:blipFill>
        <p:spPr>
          <a:xfrm>
            <a:off x="6659640" y="260280"/>
            <a:ext cx="92844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539640" y="134136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Спорное утверждение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№ 3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 ситуации травли учитель ничего не может сделать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86960" y="221760"/>
            <a:ext cx="585324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Центр социальной-психологической адаптации и развития </a:t>
            </a:r>
            <a:br>
              <a:rPr sz="2100"/>
            </a:b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подростков «ПЕРЕКРЕСТОК» МГППУ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Нижний колонтитул 6"/>
          <p:cNvSpPr/>
          <p:nvPr/>
        </p:nvSpPr>
        <p:spPr>
          <a:xfrm>
            <a:off x="4786200" y="6286680"/>
            <a:ext cx="420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Arial"/>
              </a:rPr>
              <a:t>Центр "ПЕРЕКРЕСТОК" МГППУ, октябрь 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Рисунок 7" descr="LOGO_green.jpg"/>
          <p:cNvPicPr/>
          <p:nvPr/>
        </p:nvPicPr>
        <p:blipFill>
          <a:blip r:embed="rId1"/>
          <a:stretch/>
        </p:blipFill>
        <p:spPr>
          <a:xfrm>
            <a:off x="6588000" y="260280"/>
            <a:ext cx="92880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500040" y="135720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Очевидно, что эта проблема заслуживает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большого внимания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86960" y="221760"/>
            <a:ext cx="585324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Центр социальной-психологической адаптации и развития </a:t>
            </a:r>
            <a:br>
              <a:rPr sz="2100"/>
            </a:b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подростков «ПЕРЕКРЕСТОК» МГППУ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Нижний колонтитул 6"/>
          <p:cNvSpPr/>
          <p:nvPr/>
        </p:nvSpPr>
        <p:spPr>
          <a:xfrm>
            <a:off x="4786200" y="6286680"/>
            <a:ext cx="420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Arial"/>
              </a:rPr>
              <a:t>Центр "ПЕРЕКРЕСТОК" МГППУ, октябрь 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Рисунок 7" descr="LOGO_green.jpg"/>
          <p:cNvPicPr/>
          <p:nvPr/>
        </p:nvPicPr>
        <p:blipFill>
          <a:blip r:embed="rId1"/>
          <a:stretch/>
        </p:blipFill>
        <p:spPr>
          <a:xfrm>
            <a:off x="6588000" y="260280"/>
            <a:ext cx="928800" cy="928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5" name=""/>
          <p:cNvGraphicFramePr/>
          <p:nvPr/>
        </p:nvGraphicFramePr>
        <p:xfrm>
          <a:off x="214200" y="1500120"/>
          <a:ext cx="8137800" cy="4291200"/>
        </p:xfrm>
        <a:graphic>
          <a:graphicData uri="http://schemas.openxmlformats.org/drawingml/2006/table">
            <a:tbl>
              <a:tblPr/>
              <a:tblGrid>
                <a:gridCol w="2319480"/>
                <a:gridCol w="3324240"/>
                <a:gridCol w="2494080"/>
              </a:tblGrid>
              <a:tr h="3922920">
                <a:tc>
                  <a:txBody>
                    <a:bodyPr lIns="114480" rIns="11448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Как  можно понять, что в Вашем классе этой проблемы нет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114480" marR="11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14480" rIns="11448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Какие есть  способы предупреждения этой проблемы ?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114480" marR="11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14480" rIns="11448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Что  можно сделать,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сли появились первые признаки проблемы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114480" marR="11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179280" y="1341360"/>
            <a:ext cx="878544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В работе с буллингом важно четко понимать и соблюдать последовательность действий. Сначала надо пресечь буллинг, и лишь затем актуальность обретает помощь жертве с психологическими и поведенческими проблемами. Если сначала проводить социальный тренинг или подобные мероприятия, то это сообщает жертве и остальным, что она сама виновата в травле. Это деструктивно для жертвы и окажет опасное воздействие на учеников и школьную атмосферу в цело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86960" y="221760"/>
            <a:ext cx="585324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Центр социальной-психологической адаптации и развития </a:t>
            </a:r>
            <a:br>
              <a:rPr sz="2100"/>
            </a:b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подростков «ПЕРЕКРЕСТОК» МГППУ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Нижний колонтитул 6"/>
          <p:cNvSpPr/>
          <p:nvPr/>
        </p:nvSpPr>
        <p:spPr>
          <a:xfrm>
            <a:off x="4786200" y="6286680"/>
            <a:ext cx="420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Arial"/>
              </a:rPr>
              <a:t>Центр "ПЕРЕКРЕСТОК" МГППУ, октябрь 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9" name="Рисунок 7" descr="LOGO_green.jpg"/>
          <p:cNvPicPr/>
          <p:nvPr/>
        </p:nvPicPr>
        <p:blipFill>
          <a:blip r:embed="rId1"/>
          <a:stretch/>
        </p:blipFill>
        <p:spPr>
          <a:xfrm>
            <a:off x="6588000" y="260280"/>
            <a:ext cx="92880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500040" y="128592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пасибо за внимание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езентацию подготовил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пециалисты школьного отдел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86960" y="221760"/>
            <a:ext cx="585324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Центр социальной-психологической адаптации и развития </a:t>
            </a:r>
            <a:br>
              <a:rPr sz="2100"/>
            </a:b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подростков «ПЕРЕКРЕСТОК» МГППУ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Нижний колонтитул 6"/>
          <p:cNvSpPr/>
          <p:nvPr/>
        </p:nvSpPr>
        <p:spPr>
          <a:xfrm>
            <a:off x="4786200" y="6286680"/>
            <a:ext cx="420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Arial"/>
              </a:rPr>
              <a:t>Центр "ПЕРЕКРЕСТОК" МГППУ, октябрь 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3" name="Рисунок 7" descr="LOGO_green.jpg"/>
          <p:cNvPicPr/>
          <p:nvPr/>
        </p:nvPicPr>
        <p:blipFill>
          <a:blip r:embed="rId1"/>
          <a:stretch/>
        </p:blipFill>
        <p:spPr>
          <a:xfrm>
            <a:off x="6659640" y="333360"/>
            <a:ext cx="92844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571680" y="128592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Буллинг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О буллинге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,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 или травле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,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 можно говорить тогда, когда один или несколько индивидов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регулярно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, на протяжении длительного времени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подвергаются негативным действиям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со стороны одного или нескольких индивидов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(Ден Ольвеус 1983г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86960" y="221760"/>
            <a:ext cx="585324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Центр социальной-психологической адаптации и развития </a:t>
            </a:r>
            <a:br>
              <a:rPr sz="2100"/>
            </a:b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подростков «ПЕРЕКРЕСТОК» МГППУ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Нижний колонтитул 6"/>
          <p:cNvSpPr/>
          <p:nvPr/>
        </p:nvSpPr>
        <p:spPr>
          <a:xfrm>
            <a:off x="4786200" y="6286680"/>
            <a:ext cx="420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Arial"/>
              </a:rPr>
              <a:t>Центр "ПЕРЕКРЕСТОК" МГППУ, октябрь 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Рисунок 7" descr="LOGO_green.jpg"/>
          <p:cNvPicPr/>
          <p:nvPr/>
        </p:nvPicPr>
        <p:blipFill>
          <a:blip r:embed="rId1"/>
          <a:stretch/>
        </p:blipFill>
        <p:spPr>
          <a:xfrm>
            <a:off x="6588000" y="260280"/>
            <a:ext cx="92880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95280" y="120960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Буллинг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Индивиду, подвергающемуся буллингу, обычно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нелегко себя защитить – он, как правило, относительно беспомощен.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Ссора между примерно равными по соотношению сил индивидов не является буллингом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(Значимость этого аспекта была отмечена еще в 1983 году, когда в Норвегии была проведена первая в мире компания, направленная против моббинга.)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86960" y="221760"/>
            <a:ext cx="585324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Центр социальной-психологической адаптации и развития </a:t>
            </a:r>
            <a:br>
              <a:rPr sz="2100"/>
            </a:b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подростков «ПЕРЕКРЕСТОК» МГППУ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Нижний колонтитул 6"/>
          <p:cNvSpPr/>
          <p:nvPr/>
        </p:nvSpPr>
        <p:spPr>
          <a:xfrm>
            <a:off x="4786200" y="6286680"/>
            <a:ext cx="420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Arial"/>
              </a:rPr>
              <a:t>Центр "ПЕРЕКРЕСТОК" МГППУ, октябрь 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Рисунок 7" descr="LOGO_green.jpg"/>
          <p:cNvPicPr/>
          <p:nvPr/>
        </p:nvPicPr>
        <p:blipFill>
          <a:blip r:embed="rId1"/>
          <a:stretch/>
        </p:blipFill>
        <p:spPr>
          <a:xfrm>
            <a:off x="6588000" y="260280"/>
            <a:ext cx="92880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571680" y="128592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Распространенность буллинга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13% школьников имеют опыт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жертв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, 20% –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преследователей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, причем в больших городах уровень буллинга выше, чем в сельской местности (Россия) (Ениколопов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25% подростков хотя бы раз участвовали в буллинге (Россия) (Собкин, Маркина, 2009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-   68% учеников средней школы бывали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свидетелям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травли в школе (Канада)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rach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Hymel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aterhouse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Neale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, 2010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86960" y="221760"/>
            <a:ext cx="585324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Центр социальной-психологической адаптации и развития </a:t>
            </a:r>
            <a:br>
              <a:rPr sz="2100"/>
            </a:b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подростков «ПЕРЕКРЕСТОК» МГППУ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Нижний колонтитул 6"/>
          <p:cNvSpPr/>
          <p:nvPr/>
        </p:nvSpPr>
        <p:spPr>
          <a:xfrm>
            <a:off x="4786200" y="6286680"/>
            <a:ext cx="420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Arial"/>
              </a:rPr>
              <a:t>Центр "ПЕРЕКРЕСТОК" МГППУ, октябрь 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Рисунок 7" descr="LOGO_green.jpg"/>
          <p:cNvPicPr/>
          <p:nvPr/>
        </p:nvPicPr>
        <p:blipFill>
          <a:blip r:embed="rId1"/>
          <a:stretch/>
        </p:blipFill>
        <p:spPr>
          <a:xfrm>
            <a:off x="6588000" y="260280"/>
            <a:ext cx="92880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571680" y="128592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Спорное утверждение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№ 1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Травля – нормальный и безвредный процесс взросления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86960" y="221760"/>
            <a:ext cx="585324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Центр социальной-психологической адаптации и развития </a:t>
            </a:r>
            <a:br>
              <a:rPr sz="2100"/>
            </a:b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подростков «ПЕРЕКРЕСТОК» МГППУ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Нижний колонтитул 6"/>
          <p:cNvSpPr/>
          <p:nvPr/>
        </p:nvSpPr>
        <p:spPr>
          <a:xfrm>
            <a:off x="4786200" y="6286680"/>
            <a:ext cx="420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Arial"/>
              </a:rPr>
              <a:t>Центр "ПЕРЕКРЕСТОК" МГППУ, октябрь 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Рисунок 7" descr="LOGO_green.jpg"/>
          <p:cNvPicPr/>
          <p:nvPr/>
        </p:nvPicPr>
        <p:blipFill>
          <a:blip r:embed="rId1"/>
          <a:stretch/>
        </p:blipFill>
        <p:spPr>
          <a:xfrm>
            <a:off x="6588000" y="260280"/>
            <a:ext cx="92880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571680" y="128592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Травля (буллинг, моббинг) в школе – проблема, с которой сталкиваются очень многие. Буллинг – не нормативный и не безвредный этап взросления. Буллинг – это насилие, имеющее тяжелые последствия для всех участников и сообщества в целом. Буллинг привычен для российской действительности, сложно его обнаруживать, сложно обсуждать, сложно изменять             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  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  .               отношение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к нему,  как к норме.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86960" y="221760"/>
            <a:ext cx="585324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Центр социальной-психологической адаптации и развития </a:t>
            </a:r>
            <a:br>
              <a:rPr sz="2100"/>
            </a:b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подростков «ПЕРЕКРЕСТОК» МГППУ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Нижний колонтитул 6"/>
          <p:cNvSpPr/>
          <p:nvPr/>
        </p:nvSpPr>
        <p:spPr>
          <a:xfrm>
            <a:off x="4786200" y="6286680"/>
            <a:ext cx="420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Arial"/>
              </a:rPr>
              <a:t>Центр "ПЕРЕКРЕСТОК" МГППУ, октябрь 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Рисунок 7" descr="LOGO_green.jpg"/>
          <p:cNvPicPr/>
          <p:nvPr/>
        </p:nvPicPr>
        <p:blipFill>
          <a:blip r:embed="rId1"/>
          <a:stretch/>
        </p:blipFill>
        <p:spPr>
          <a:xfrm>
            <a:off x="6588000" y="260280"/>
            <a:ext cx="92880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571680" y="128592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Последствия буллинга и связанные с ним риски: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жертвы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испытывают сложности со здоровьем и успеваемостью, в три раза чаще сверстников имеют симптомы тревожно-депрессивных расстройств, апатию, головные боли и энурез, совершают попытки суицида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(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Kowalski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Limber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Agatstone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, 2011;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Van der Wal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de Wit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Hirasing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, 2003).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86960" y="221760"/>
            <a:ext cx="585324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Центр социальной-психологической адаптации и развития </a:t>
            </a:r>
            <a:br>
              <a:rPr sz="2100"/>
            </a:b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подростков «ПЕРЕКРЕСТОК» МГППУ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Нижний колонтитул 6"/>
          <p:cNvSpPr/>
          <p:nvPr/>
        </p:nvSpPr>
        <p:spPr>
          <a:xfrm>
            <a:off x="4786200" y="6286680"/>
            <a:ext cx="420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Arial"/>
              </a:rPr>
              <a:t>Центр "ПЕРЕКРЕСТОК" МГППУ, октябрь 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Рисунок 7" descr="LOGO_green.jpg"/>
          <p:cNvPicPr/>
          <p:nvPr/>
        </p:nvPicPr>
        <p:blipFill>
          <a:blip r:embed="rId1"/>
          <a:stretch/>
        </p:blipFill>
        <p:spPr>
          <a:xfrm>
            <a:off x="6588000" y="260280"/>
            <a:ext cx="92880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539640" y="134136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Последствия буллинга и связанные с ним риски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у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преследователей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часто отмечаются низкая успеваемость, прогулы, драки, воровство, вандализм, хранение оружия, употребление алкоголя и табак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Byrne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, 1994;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Garofalo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olf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Kessel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et al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., 1998;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Haynie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Nansel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Eitel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et al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., 2001;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Olweus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, 1993)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86960" y="221760"/>
            <a:ext cx="585324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Центр социальной-психологической адаптации и развития </a:t>
            </a:r>
            <a:br>
              <a:rPr sz="2100"/>
            </a:b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подростков «ПЕРЕКРЕСТОК» МГППУ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Нижний колонтитул 6"/>
          <p:cNvSpPr/>
          <p:nvPr/>
        </p:nvSpPr>
        <p:spPr>
          <a:xfrm>
            <a:off x="4786200" y="6286680"/>
            <a:ext cx="420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Arial"/>
              </a:rPr>
              <a:t>Центр "ПЕРЕКРЕСТОК" МГППУ, октябрь 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Рисунок 7" descr="LOGO_green.jpg"/>
          <p:cNvPicPr/>
          <p:nvPr/>
        </p:nvPicPr>
        <p:blipFill>
          <a:blip r:embed="rId1"/>
          <a:stretch/>
        </p:blipFill>
        <p:spPr>
          <a:xfrm>
            <a:off x="6588000" y="260280"/>
            <a:ext cx="92880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9640" y="134136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Спорное утверждение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№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2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етей с необычным поведением будут обижать в любом коллективе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86960" y="221760"/>
            <a:ext cx="585324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Центр социальной-психологической адаптации и развития </a:t>
            </a:r>
            <a:br>
              <a:rPr sz="2100"/>
            </a:b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подростков «ПЕРЕКРЕСТОК» МГППУ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Нижний колонтитул 6"/>
          <p:cNvSpPr/>
          <p:nvPr/>
        </p:nvSpPr>
        <p:spPr>
          <a:xfrm>
            <a:off x="4786200" y="6286680"/>
            <a:ext cx="420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Arial"/>
              </a:rPr>
              <a:t>Центр "ПЕРЕКРЕСТОК" МГППУ, октябрь 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Рисунок 7" descr="LOGO_green.jpg"/>
          <p:cNvPicPr/>
          <p:nvPr/>
        </p:nvPicPr>
        <p:blipFill>
          <a:blip r:embed="rId1"/>
          <a:stretch/>
        </p:blipFill>
        <p:spPr>
          <a:xfrm>
            <a:off x="6588000" y="260280"/>
            <a:ext cx="92880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31T08:59:02Z</dcterms:created>
  <dc:creator>User</dc:creator>
  <dc:description/>
  <dc:language>en-US</dc:language>
  <cp:lastModifiedBy>Administrator</cp:lastModifiedBy>
  <dcterms:modified xsi:type="dcterms:W3CDTF">2014-02-16T15:16:48Z</dcterms:modified>
  <cp:revision>88</cp:revision>
  <dc:subject/>
  <dc:title>Программа профилактики буллинга в образовательных учреждениях</dc:title>
</cp:coreProperties>
</file>